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unkunterlagen zum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Gültigen Sprechfunkzeugnis für UKW und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triebszeugnisse I und II für UKW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 ohne Binnen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n Martin Bro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lagseite, Kentergefah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listing and danger of capsiz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04960" y="13716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  ___________ / _________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 MMSI      eig. Schiffsname    eig. Rufzeichen</a:t>
            </a:r>
            <a:br>
              <a:rPr sz="18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 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 007 degree 28 minutes eas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hip has heavy list       stop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ger of capsizing     stop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ire tug assistance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" y="417600"/>
            <a:ext cx="338652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lagseite,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Notfall ohne genauere Angabe der Ar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24066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19160" y="2282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iff sinkt (sin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04960" y="9907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  ___________ / _________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 MMSI      eig. Schiffsname    eig. Rufzeichen</a:t>
            </a:r>
            <a:br>
              <a:rPr sz="18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 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 007 degree 28 minutes eas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hip is sinking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ire assistance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" y="417600"/>
            <a:ext cx="338652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lagseite,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Notfall ohne genauere Angabe der Ar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259092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övrierunfähig und treibend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disable and adr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04960" y="12952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  ___________ / _________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 MMSI      eig. Schiffsname    eig. Rufzeichen</a:t>
            </a:r>
            <a:br>
              <a:rPr sz="18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 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 007 degree 28 minutes eas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hip is not under comman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ifting towards the sandbanks/reef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ire tug assistance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" y="417600"/>
            <a:ext cx="3386520" cy="63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lagseite,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Notfall ohne genauere Angabe der Ar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7874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tfall ohne genauere Angabe der Art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undesignated dist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04960" y="14479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  ___________ / _________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 MMSI      eig. Schiffsname    eig. Rufzeichen</a:t>
            </a:r>
            <a:br>
              <a:rPr sz="18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 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 007 degree 28 minutes eas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 over board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ire assistance for search and rescue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" y="417600"/>
            <a:ext cx="3386520" cy="63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Notfall ohne genauere Angabe der Ar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94012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9512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iff verlassen (abandoning sh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04960" y="12952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  ___________ / _________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 MMSI      eig. Schiffsname    eig. Rufzeichen</a:t>
            </a:r>
            <a:br>
              <a:rPr sz="18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 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 007 degree 28 minutes eas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andoning ship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ire assistance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" y="417600"/>
            <a:ext cx="338652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Notfall ohne genauere Angabe der Ar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31240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512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iraterie oder Raub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piracy or robbe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04960" y="12952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  ___________ / _________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 MMSI      eig. Schiffsname    eig. Rufzeichen</a:t>
            </a:r>
            <a:br>
              <a:rPr sz="18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 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 007 degree 28 minutes eas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bbery by unknown vessel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ire assistance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" y="417600"/>
            <a:ext cx="3386520" cy="63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Notfall ohne genauere Angabe der Ar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3210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ätigung einer GMDSS-Notme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360" y="11430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    __________    __________ 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3 mal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MMS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des Schiffs in Not,siehe DSC-Controller</a:t>
            </a:r>
            <a:br>
              <a:rPr sz="18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  _______  ________ / ____________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3  mal  eigener   Schiffsname             /  eigenes Rufzeiche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eived MAY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8240" y="417600"/>
            <a:ext cx="200268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44792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66880" y="3276720"/>
            <a:ext cx="4419720" cy="2057400"/>
          </a:xfrm>
          <a:custGeom>
            <a:avLst/>
            <a:gdLst>
              <a:gd name="textAreaLeft" fmla="*/ 0 w 4419720"/>
              <a:gd name="textAreaRight" fmla="*/ 4420080 w 441972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MDSS-Notmeldung-RELAY</a:t>
            </a: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&gt; Weiterleitung einer Notmeldung eines and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5640" y="10666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___________   ____________ /  ___________ </a:t>
            </a:r>
            <a:br>
              <a:rPr sz="18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 MMSI      eig. Schiffsname     eig. Rufzeichen)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t _ _ _ _ UTC on channel __ following received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YDAY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_________________ / ________</a:t>
            </a:r>
            <a:br>
              <a:rPr sz="18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Name des Schiffs in Not / Rufzeich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 </a:t>
            </a:r>
            <a:br>
              <a:rPr sz="2000"/>
            </a:b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U) ________________________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H) ________________________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_______________ /  ___________ </a:t>
            </a:r>
            <a:br>
              <a:rPr sz="18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r Schiffsname     eig. Rufzeichen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8240" y="417600"/>
            <a:ext cx="200268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64448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04600" y="3470400"/>
            <a:ext cx="1654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r Inhalt ist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ntsprechend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r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mpfangenen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otmeldung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uszusende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90920" y="3657600"/>
            <a:ext cx="6019560" cy="1447920"/>
          </a:xfrm>
          <a:custGeom>
            <a:avLst/>
            <a:gdLst/>
            <a:ahLst/>
            <a:rect l="l" t="t" r="r" b="b"/>
            <a:pathLst>
              <a:path w="3792" h="912">
                <a:moveTo>
                  <a:pt x="0" y="0"/>
                </a:moveTo>
                <a:lnTo>
                  <a:pt x="3792" y="0"/>
                </a:lnTo>
                <a:lnTo>
                  <a:pt x="3792" y="624"/>
                </a:lnTo>
                <a:lnTo>
                  <a:pt x="3168" y="912"/>
                </a:lnTo>
                <a:lnTo>
                  <a:pt x="2496" y="672"/>
                </a:lnTo>
                <a:lnTo>
                  <a:pt x="0" y="672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MDSS-Notmeldung-RELAY</a:t>
            </a: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&gt; Beobachtung einer Notmeldung eines and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09320" y="9907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___________   ____________ /  ___________ </a:t>
            </a:r>
            <a:br>
              <a:rPr sz="18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 MMSI      eig. Schiffsname     eig. Rufzeichen)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 </a:t>
            </a:r>
            <a:br>
              <a:rPr sz="20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llowing observed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U) red flare approximate 3 nm southwest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H) ships in vicinity are requested to keep a sharp lookout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____________ /  ___________ </a:t>
            </a:r>
            <a:br>
              <a:rPr sz="18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eig. Schiffsname     eig. Rufzeichen)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240" y="417600"/>
            <a:ext cx="2002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Meldu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2880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38840" y="5291280"/>
            <a:ext cx="195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r Inhalt ist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ntsprechend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r Beobachtung 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uszusenden 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endigung eines GMDSS-Not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240" y="417600"/>
            <a:ext cx="2002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02572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33720" y="1676520"/>
            <a:ext cx="5943600" cy="4114800"/>
            <a:chOff x="2133720" y="1676520"/>
            <a:chExt cx="5943600" cy="4114800"/>
          </a:xfrm>
        </p:grpSpPr>
        <p:sp>
          <p:nvSpPr>
            <p:cNvPr id="130" name="PlaceHolder 2"/>
            <p:cNvSpPr>
              <a:spLocks noGrp="1"/>
            </p:cNvSpPr>
            <p:nvPr>
              <p:ph/>
            </p:nvPr>
          </p:nvSpPr>
          <p:spPr>
            <a:xfrm>
              <a:off x="2133720" y="1676520"/>
              <a:ext cx="59436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98000"/>
            </a:bodyPr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MAYDAY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ll Stations All Stations All Stations</a:t>
              </a:r>
              <a:br>
                <a:rPr sz="2000"/>
              </a:br>
              <a:br>
                <a:rPr sz="2000"/>
              </a:b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This is</a:t>
              </a:r>
              <a:br>
                <a:rPr sz="2000"/>
              </a:b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____________ /  ___________ </a:t>
              </a:r>
              <a:br>
                <a:rPr sz="2000"/>
              </a:b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</a:rPr>
                <a:t>eig. Schiffsname        eig. Rufzeichen)</a:t>
              </a:r>
              <a:br>
                <a:rPr sz="1800"/>
              </a:b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(UTC)  _ _   _ _ </a:t>
              </a:r>
              <a:br>
                <a:rPr sz="2000"/>
              </a:br>
              <a:br>
                <a:rPr sz="20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_________________ / ________</a:t>
              </a:r>
              <a:br>
                <a:rPr sz="1800"/>
              </a:b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</a:rPr>
                <a:t>Name des Schiffs in Not / Rufzeichen</a:t>
              </a:r>
              <a:br>
                <a:rPr sz="1800"/>
              </a:br>
              <a:br>
                <a:rPr sz="18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ILENCE FI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9880" y="4343400"/>
              <a:ext cx="76320" cy="763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nweis des VERFASSERS:</a:t>
            </a:r>
            <a:br>
              <a:rPr sz="3200"/>
            </a:br>
            <a:br>
              <a:rPr sz="32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 Funkunterlagen zum Gültigen Sprechfunkzeugnis für UKW und Betriebszeugnisse I und II für UKW dien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diglich als Hilfsmittel für den Anwender mit erfolgreich abgelegter und bestandener Prüfung und sind ohne Gewäh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hebung eines irrtümlich abgesetzt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enen GMDSS-Notal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0" y="12952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 Stations All Stations All Stations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_  /  ___________  ___________ 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. Schiffsname       eig. Rufzeichen     eigene MMSI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) __ - __   _     ___ - __  _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al my distress alert o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 _ _ _ _ _ UTC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sp: 190430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ster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 _ _ _ _ _ UTC</a:t>
            </a:r>
            <a:br>
              <a:rPr sz="20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sp: 190440)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8240" y="417600"/>
            <a:ext cx="2002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17800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ldung zur Einhaltung der Funkstill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ährend eines GMDSS-Not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33720" y="13716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 Stations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LENCE MAYDAY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Anruf eine bestimmten Funkstell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Name der gerufenen Funkstelle)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LENCE MAY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8600" y="417600"/>
            <a:ext cx="205308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36232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8960" y="417600"/>
            <a:ext cx="196992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Ärztliche Beratung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64448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gehensweise der Aussen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133720" y="91440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sendung im DSC auf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Kanal 7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zum Teil einzugebenden Angaben: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 MMSI des eigenen Schiffs (im DSC gespeichert)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 Anruf AN ALLE FUNKSTELLEN (all ships call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oder die MMSI der bestimmten Funkstell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 Kategorie des Anrufs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ringlichkeit = urgenc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na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auf dem die nachfolgende Dringlichkeitsmeld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ausgesendet werden soll, in der Regel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6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 Betriebsart des nachfolgenden Notverkehrs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Sprechfunk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nn folgt die Aussendung im GMDSS-Sprechfunkverfahren auf dem gewählten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Kanal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sprechend den folgenden Beispie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438280" y="2743200"/>
            <a:ext cx="4419720" cy="2057400"/>
          </a:xfrm>
          <a:custGeom>
            <a:avLst/>
            <a:gdLst>
              <a:gd name="textAreaLeft" fmla="*/ 0 w 4419720"/>
              <a:gd name="textAreaRight" fmla="*/ 4420080 w 441972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61600" y="3352680"/>
            <a:ext cx="165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r Inhalt ist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ntsprechend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uszusende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MDSS-Dringlichkeitsme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133720" y="837720"/>
            <a:ext cx="6248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NPAN PANPAN PANPA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 Stations All Stations All Stations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  ___________ / _________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 MMSI      eig. Schiffsname    eig. Rufzeich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) __ - __   _     ___ - __  _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U) ____________________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H) ____________________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nd by on channel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ntsprechend dem gewählten Kanal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8960" y="417600"/>
            <a:ext cx="196992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Ärztliche Beratung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64448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hebung eines GMDSS-Dringlichkeitsanrufs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bzw. einer GMDSS-Dringlichkeitsmeld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NPAN PANPAN PANPA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 Stations All Stations All Station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  ___________ / _________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 MMSI      eig. Schiffsname    eig. Rufzeich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el my urgency message from 191230 UTC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8960" y="417600"/>
            <a:ext cx="196992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Ärztliche Beratung 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82880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8960" y="417600"/>
            <a:ext cx="196992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Ärztliche Beratung 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02572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Ärztliche Bera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33360" y="10666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NPAN PANPAN PANPA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 Stations All Stations All Stations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  ___________ / _________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 MMSI      eig. Schiffsname    eig. Rufzeich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) __ - __   _     ___ - __  _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U) seriously injured person on board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H) request medical advice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nd by on channel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ntsprechend dem gewählten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MDSS-Sicherheitsme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33360" y="121932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curite Securite Securit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 Stations All Stations All Station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  ___________ / _________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 MMSI      eig. Schiffsname    eig. Rufzeich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Position 6 nm north of Helgola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ifting container observe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nd by on channel 16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8960" y="417600"/>
            <a:ext cx="196992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02572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880" y="371520"/>
            <a:ext cx="2665440" cy="63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lagseite,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 </a:t>
            </a:r>
            <a:br>
              <a:rPr sz="12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320" y="202572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914400"/>
            <a:ext cx="5638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sendung au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anal 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t anzugebenden Angaben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letzte bekannte Position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rt des Notfall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sprechend den folgenden Beispie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95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14600" y="22860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gehensweise der Aussen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514600" y="22860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n über Bord (person over board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60948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 MAYDAY 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  _______  ________ / ________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3   mal   eigener  Schiffsname       /  eig. Rufzeichen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____ / __________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r  Schiffsname  / eig. Rufzeichen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007 degree 28 minutes east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 over board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ssels in vicinity please keep a sharp lookou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880" y="371520"/>
            <a:ext cx="2665440" cy="64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br>
              <a:rPr sz="18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lagseite,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 </a:t>
            </a:r>
            <a:br>
              <a:rPr sz="12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4600" y="213372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14600" y="22860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euer, Explosion (fire, explosion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60948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 MAYDAY 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  _______  ________ / ________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3   mal   eigener  Schiffsname        / eig. Rufzeichen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____ / __________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r  Schiffsname  / eig. Rufzeichen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007 degree 28 minutes eas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hip on fire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est assistance for fire-fighting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880" y="371520"/>
            <a:ext cx="2665440" cy="62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br>
              <a:rPr sz="18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lagseite,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 </a:t>
            </a:r>
            <a:br>
              <a:rPr sz="12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4600" y="233028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chstabiertafel für Buchst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90560" y="137160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xtro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o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uli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i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867280" y="1371600"/>
            <a:ext cx="2743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v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s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eb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om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s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Yank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oul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8960" y="417600"/>
            <a:ext cx="1969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514600" y="22860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assereinbruch (flooding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880" y="371520"/>
            <a:ext cx="2665440" cy="61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lagseite,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 </a:t>
            </a:r>
            <a:br>
              <a:rPr sz="12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24382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60948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 MAYDAY 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  _______  ________ / ________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3   mal   eigener  Schiffsname        / eig. Rufzeichen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____ / __________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r  Schiffsname  / eig. Rufzeichen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007 degree 28 minutes eas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hip is making water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est assistance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14600" y="22860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llision (collision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880" y="371520"/>
            <a:ext cx="2665440" cy="64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br>
              <a:rPr sz="18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lagseite,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 </a:t>
            </a:r>
            <a:br>
              <a:rPr sz="12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4600" y="271152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60948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 MAYDAY 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  _______  ________ / ________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3   mal   eigener  Schiffsname        / eig. Rufzeichen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____ / __________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r  Schiffsname  / eig. Rufzeichen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007 degree 28 minutes eas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llision with unknown vessel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est assistance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514600" y="22860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undberührung (grounding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880" y="371520"/>
            <a:ext cx="2665440" cy="61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lagseite,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 </a:t>
            </a:r>
            <a:br>
              <a:rPr sz="12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4600" y="281952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19520" y="60948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 MAYDAY 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  _______  ________ / ________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3   mal   eigener  Schiffsname        / eig. Rufzeichen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____ / __________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r  Schiffsname  / eig. Rufzeichen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007 degree 28 minutes eas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hip grounded on sandbank/reef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est tug assistance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14600" y="22860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lagseite, Kentergefahr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listing and danger of capzis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880" y="371520"/>
            <a:ext cx="2665440" cy="63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lagseite,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 </a:t>
            </a:r>
            <a:br>
              <a:rPr sz="12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4600" y="297180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106668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 MAYDAY 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  _______  ________ / ________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3   mal   eigener  Schiffsname        / eig. Rufzeichen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____ / __________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r  Schiffsname  / eig. Rufzeichen</a:t>
            </a:r>
            <a:br>
              <a:rPr sz="1600"/>
            </a:br>
            <a:br>
              <a:rPr sz="16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007 degree 28 minutes eas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hip has heavy list stop danger of capzising stop request assistance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514600" y="22860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inken (sinking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880" y="371520"/>
            <a:ext cx="2665440" cy="63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lagseite,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 </a:t>
            </a:r>
            <a:br>
              <a:rPr sz="12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4600" y="316872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60948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 MAYDAY 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  _______  ________ / ________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3   mal   eigener  Schiffsname        / eig. Rufzeichen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____ / __________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r  Schiffsname  / eig. Rufzeichen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007 degree 28 minutes eas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hip is sinking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est assistance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514600" y="22860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övrierunfähig und treibend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disable and adrift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880" y="371520"/>
            <a:ext cx="2665440" cy="61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lagseite,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 </a:t>
            </a:r>
            <a:br>
              <a:rPr sz="12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195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4600" y="335268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9520" y="990720"/>
            <a:ext cx="6095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 MAYDAY 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  _______  ________ / ________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3   mal   eigener  Schiffsname        / eig. Rufzeichen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____ / __________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r  Schiffsname  / eig. Rufzeichen</a:t>
            </a:r>
            <a:br>
              <a:rPr sz="16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007 degree 28 minutes eas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hip is not under command stop ship is drifting towards the sandbank/reef stop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est assistance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14600" y="22860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iff wird verlassen (abandoning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880" y="371520"/>
            <a:ext cx="2665440" cy="61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lagseite,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 </a:t>
            </a:r>
            <a:br>
              <a:rPr sz="12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4600" y="354960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60948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 MAYDAY 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  _______  ________ / ________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3   mal   eigener  Schiffsname        / eig. Rufzeichen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____ / __________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r  Schiffsname  / eig. Rufzeichen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007 degree 28 minutes eas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andoning ship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est assistance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14600" y="22860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iraterie oder Raub (piracy or robbe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880" y="371520"/>
            <a:ext cx="2665440" cy="61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lagseite,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 </a:t>
            </a:r>
            <a:br>
              <a:rPr sz="12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373392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60948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 MAYDAY 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  _______  ________ / ________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3   mal   eigener  Schiffsname        / eig. Rufzeichen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____ / __________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r  Schiffsname  / eig. Rufzeichen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007 degree 28 minutes eas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iracy and robbery by unknown vessel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est assistance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ätigung einer NON-GMDSS-Notme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133720" y="1143000"/>
            <a:ext cx="62481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  ________  ________ / __________ 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3 mal Name des Schiffs in Not    / Rufzeiche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  _______  ________ / ____________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3  mal  eigener   Schiffsname             /  eigenes Rufzeiche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eived MAY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90512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8600" y="430200"/>
            <a:ext cx="2053080" cy="38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666880" y="3429000"/>
            <a:ext cx="5639040" cy="2133720"/>
          </a:xfrm>
          <a:custGeom>
            <a:avLst/>
            <a:gdLst/>
            <a:ahLst/>
            <a:rect l="l" t="t" r="r" b="b"/>
            <a:pathLst>
              <a:path w="3552" h="1344">
                <a:moveTo>
                  <a:pt x="0" y="0"/>
                </a:moveTo>
                <a:lnTo>
                  <a:pt x="3552" y="0"/>
                </a:lnTo>
                <a:lnTo>
                  <a:pt x="3552" y="624"/>
                </a:lnTo>
                <a:lnTo>
                  <a:pt x="3264" y="768"/>
                </a:lnTo>
                <a:lnTo>
                  <a:pt x="2928" y="624"/>
                </a:lnTo>
                <a:lnTo>
                  <a:pt x="2352" y="624"/>
                </a:lnTo>
                <a:lnTo>
                  <a:pt x="2352" y="1344"/>
                </a:lnTo>
                <a:lnTo>
                  <a:pt x="0" y="1344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285640" y="9907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YDAY RELAY MAYDAY RELAY MAYDAY RELAY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_______  _______  _______  /  ___________</a:t>
            </a:r>
            <a:br>
              <a:rPr sz="18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3  mal  eigener  Schiffsname      /    eig. Rufzeichen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t ____ UTC on channel __ following received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YDAY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_________________  / _____________</a:t>
            </a:r>
            <a:br>
              <a:rPr sz="18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Name des Schiffs in Not /  dessen Rufzeich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) __ - __   _     ___ - __  _ ; __ - __   _     ___ - __  _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U) ________________________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H) ________________________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_______________ /  ___________ </a:t>
            </a:r>
            <a:br>
              <a:rPr sz="18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r Schiffsname /   eig. Rufzeichen)</a:t>
            </a:r>
            <a:br>
              <a:rPr sz="16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60760" y="4651200"/>
            <a:ext cx="147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r Inhalt ist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ntsprechend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r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mpfangenen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meldun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uszusenden 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GMDSS-Notmeldung-RELAY</a:t>
            </a: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&gt; Weiterleitung einer Notmeldung eines and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45720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8600" y="430200"/>
            <a:ext cx="205308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10168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19160" y="2282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gehensweise der Aussen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504960" y="9144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sendung im DSC auf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Kanal 7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zum Teil einzugebenden Angaben: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 MMSI des Schiffs in Not (im DSC gespeichert)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 Art des Notfalls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 letzte bekannte Position und Uhrzeit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 Betriebsart des nachfolgenden Notverkehrs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Sprechfunk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nn folgt, wenn möglich, die Aussendung im GMDSS-Sprechfunkverfahren auf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Kanal 16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sprechend den folgenden Beispie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" y="417600"/>
            <a:ext cx="3386520" cy="63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lagseite,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Notfall ohne genauere Angabe der Ar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6360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GMDSS-Notmeldung-RELAY</a:t>
            </a: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&gt; Beobachtung einer Notmeldung eines and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8600" y="430200"/>
            <a:ext cx="205308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28600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133360" y="1066680"/>
            <a:ext cx="6629400" cy="5520600"/>
            <a:chOff x="2133360" y="1066680"/>
            <a:chExt cx="6629400" cy="5520600"/>
          </a:xfrm>
        </p:grpSpPr>
        <p:sp>
          <p:nvSpPr>
            <p:cNvPr id="243" name=""/>
            <p:cNvSpPr/>
            <p:nvPr/>
          </p:nvSpPr>
          <p:spPr>
            <a:xfrm>
              <a:off x="2438280" y="3962520"/>
              <a:ext cx="6019920" cy="1447560"/>
            </a:xfrm>
            <a:custGeom>
              <a:avLst/>
              <a:gdLst/>
              <a:ahLst/>
              <a:rect l="l" t="t" r="r" b="b"/>
              <a:pathLst>
                <a:path w="3792" h="912">
                  <a:moveTo>
                    <a:pt x="0" y="0"/>
                  </a:moveTo>
                  <a:lnTo>
                    <a:pt x="3792" y="0"/>
                  </a:lnTo>
                  <a:lnTo>
                    <a:pt x="3792" y="624"/>
                  </a:lnTo>
                  <a:lnTo>
                    <a:pt x="3168" y="912"/>
                  </a:lnTo>
                  <a:lnTo>
                    <a:pt x="2496" y="672"/>
                  </a:lnTo>
                  <a:lnTo>
                    <a:pt x="0" y="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PlaceHolder 2"/>
            <p:cNvSpPr>
              <a:spLocks noGrp="1"/>
            </p:cNvSpPr>
            <p:nvPr>
              <p:ph/>
            </p:nvPr>
          </p:nvSpPr>
          <p:spPr>
            <a:xfrm>
              <a:off x="2133360" y="1066680"/>
              <a:ext cx="66294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74000"/>
            </a:bodyPr>
            <a:p>
              <a:pPr marL="253800" indent="-25380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YDAY RELAY MAYDAY RELAY MAYDAY RELAY</a:t>
              </a:r>
              <a:br>
                <a:rPr sz="1800"/>
              </a:b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is is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_______  _______  _______  /  ___________</a:t>
              </a:r>
              <a:br>
                <a:rPr sz="1800"/>
              </a:b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</a:rPr>
                <a:t>3  mal  eigener  Schiffsname      /    eig. Rufzeichen</a:t>
              </a:r>
              <a:br>
                <a:rPr sz="1800"/>
              </a:b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P) __ - __   _     ___ - __  _ ; __ - __   _     ___ - __  _ </a:t>
              </a:r>
              <a:br>
                <a:rPr sz="1800"/>
              </a:b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ollowing observed</a:t>
              </a:r>
              <a:br>
                <a:rPr sz="1800"/>
              </a:br>
              <a:br>
                <a:rPr sz="1800"/>
              </a:b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U) red flare approximate 3 nm southwest</a:t>
              </a:r>
              <a:br>
                <a:rPr sz="1800"/>
              </a:b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H) ships in vicinty are requested to keep a sharp lookout</a:t>
              </a:r>
              <a:br>
                <a:rPr sz="1800"/>
              </a:br>
              <a:br>
                <a:rPr sz="1800"/>
              </a:b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is is</a:t>
              </a:r>
              <a:br>
                <a:rPr sz="1800"/>
              </a:b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_______________ /  ___________ </a:t>
              </a:r>
              <a:br>
                <a:rPr sz="1800"/>
              </a:b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</a:rPr>
                <a:t>eigener Schiffsname /   eig. Rufzeichen)</a:t>
              </a:r>
              <a:br>
                <a:rPr sz="16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38840" y="5519880"/>
              <a:ext cx="1957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er Inhalt ist </a:t>
              </a:r>
              <a:br>
                <a:rPr sz="1600"/>
              </a:b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ntsprechend </a:t>
              </a:r>
              <a:br>
                <a:rPr sz="1600"/>
              </a:b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er Beobachtung  </a:t>
              </a:r>
              <a:br>
                <a:rPr sz="1600"/>
              </a:b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auszusenden !!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33720" y="380880"/>
            <a:ext cx="67816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endigung eines NON-GMDSS-Not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8600" y="430200"/>
            <a:ext cx="205308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43828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133720" y="1371600"/>
            <a:ext cx="5943600" cy="4114800"/>
            <a:chOff x="2133720" y="1371600"/>
            <a:chExt cx="5943600" cy="4114800"/>
          </a:xfrm>
        </p:grpSpPr>
        <p:sp>
          <p:nvSpPr>
            <p:cNvPr id="251" name="PlaceHolder 2"/>
            <p:cNvSpPr>
              <a:spLocks noGrp="1"/>
            </p:cNvSpPr>
            <p:nvPr>
              <p:ph/>
            </p:nvPr>
          </p:nvSpPr>
          <p:spPr>
            <a:xfrm>
              <a:off x="2133720" y="1371600"/>
              <a:ext cx="59436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98000"/>
            </a:bodyPr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MAYDAY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ll Stations All Stations All Stations</a:t>
              </a:r>
              <a:br>
                <a:rPr sz="2000"/>
              </a:br>
              <a:br>
                <a:rPr sz="2000"/>
              </a:b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This is</a:t>
              </a:r>
              <a:br>
                <a:rPr sz="2000"/>
              </a:b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_______________ /  ___________ </a:t>
              </a:r>
              <a:br>
                <a:rPr sz="2000"/>
              </a:b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</a:rPr>
                <a:t>eigener Schiffsname        eig. Rufzeichen)</a:t>
              </a:r>
              <a:br>
                <a:rPr sz="1800"/>
              </a:b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(UTC)  _ _   _ _ </a:t>
              </a:r>
              <a:br>
                <a:rPr sz="2000"/>
              </a:br>
              <a:br>
                <a:rPr sz="20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_________________ / ________</a:t>
              </a:r>
              <a:br>
                <a:rPr sz="1800"/>
              </a:b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</a:rPr>
                <a:t>Name des Schiffs in Not / Rufzeichen</a:t>
              </a:r>
              <a:br>
                <a:rPr sz="1800"/>
              </a:br>
              <a:br>
                <a:rPr sz="18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ILENCE FI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09880" y="4038480"/>
              <a:ext cx="76320" cy="763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ldung zur Einhaltung der Funkstill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ährend eines NON-GMDSS-Not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8600" y="430200"/>
            <a:ext cx="205308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63520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133720" y="13716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 Stations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LENCE MAYDAY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Anruf eine bestimmten Funkstell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Name der gerufenen Funkstelle)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LENCE MAY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514600" y="3276720"/>
            <a:ext cx="5638680" cy="2133360"/>
          </a:xfrm>
          <a:custGeom>
            <a:avLst/>
            <a:gdLst/>
            <a:ahLst/>
            <a:rect l="l" t="t" r="r" b="b"/>
            <a:pathLst>
              <a:path w="3552" h="1344">
                <a:moveTo>
                  <a:pt x="0" y="0"/>
                </a:moveTo>
                <a:lnTo>
                  <a:pt x="3552" y="0"/>
                </a:lnTo>
                <a:lnTo>
                  <a:pt x="3552" y="624"/>
                </a:lnTo>
                <a:lnTo>
                  <a:pt x="3264" y="768"/>
                </a:lnTo>
                <a:lnTo>
                  <a:pt x="2928" y="624"/>
                </a:lnTo>
                <a:lnTo>
                  <a:pt x="2352" y="624"/>
                </a:lnTo>
                <a:lnTo>
                  <a:pt x="2352" y="1344"/>
                </a:lnTo>
                <a:lnTo>
                  <a:pt x="0" y="1344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133720" y="99072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NPAN PANPAN PANPA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 Stations All Stations All Station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_______  _______  _______  /  ___________</a:t>
            </a:r>
            <a:br>
              <a:rPr sz="18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3  mal  eigener  Schiffsname      /    eig. Rufzeichen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) __ - __   _     ___ - __  _ ; __ - __   _     ___ - __  _ </a:t>
            </a:r>
            <a:br>
              <a:rPr sz="1800"/>
            </a:br>
            <a:br>
              <a:rPr sz="18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U) ___________________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H) ___________________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nd by on channel 16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37920" y="4584600"/>
            <a:ext cx="165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r Inhalt ist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ntsprechend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uszusende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213372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N-GMDSS-Dringlichkeitsme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8960" y="430200"/>
            <a:ext cx="19699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ärztliche Beratung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10168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705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hebung ein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N-GMDSS-Dringlichkeitsme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6629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NPAN PANPAN PANPA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 Stations All Stations All Station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_____  _______  _______  /  ___________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3  mal  eigener  Schiffsname             /    eig. Rufzeichen</a:t>
            </a:r>
            <a:br>
              <a:rPr sz="16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el my urgency message from _ _ _ _ _ _ UTC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6440" y="430200"/>
            <a:ext cx="2073240" cy="38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ärztliche Beratung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28600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NPAN PANPAN PANPA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 Stations All Stations All Stations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_____  _______  _______  /  ___________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3  mal  eigener  Schiffsname             /    eig. Rufzeichen</a:t>
            </a:r>
            <a:br>
              <a:rPr sz="16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) __ - __   _     ___ - __  _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U) seriously injured person on board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H) request medical assistance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nd by on channel 16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6440" y="430200"/>
            <a:ext cx="22258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ärztliche Beratung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48292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Ärztliche Bera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GMDSS-Sicherheitsme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133360" y="1066680"/>
            <a:ext cx="6019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curite Securite Securit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 Stations All Stations All Station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______  _______  _______  /  ___________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3  mal  eigener  Schiffsname             /    eig. Rufzeichen</a:t>
            </a:r>
            <a:br>
              <a:rPr sz="16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Position 6 nm north of Helgolan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ifting container observe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nd by on channel 16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8960" y="430200"/>
            <a:ext cx="196992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48292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kanäle / Seefu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720" y="1066680"/>
            <a:ext cx="67816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t- und Sicherheitskana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6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ordinierte Search- &amp; Rescuekana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6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iff - Schiff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8, 9, 10, 13, 15, 17, 69, 72, 73, 77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üstenfunkstelle - Schiff: Küstenfunkstelle gibt d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Kanal vo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8960" y="430200"/>
            <a:ext cx="19699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br>
              <a:rPr sz="1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200"/>
            </a:br>
            <a:br>
              <a:rPr sz="1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14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n über Bord (person over board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" y="417600"/>
            <a:ext cx="338652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lagseite, 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Notfall ohne genauere Angabe der Ar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4922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04960" y="9907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  ___________ / _________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 MMSI      eig. Schiffsname    eig. Rufzeichen</a:t>
            </a:r>
            <a:br>
              <a:rPr sz="18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 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 007 degree 28 minutes eas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 over board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ssels in vicinity please keep a sharp lookou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euer, Explosion (fire, explo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04960" y="990720"/>
            <a:ext cx="52578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  ___________ / _________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 MMSI      eig. Schiffsname    eig. Rufzeichen</a:t>
            </a:r>
            <a:br>
              <a:rPr sz="18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 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 007 degree 28 minutes eas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hip on fire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est assistance for fire-fighting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" y="417600"/>
            <a:ext cx="338652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lagseite,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Notfall ohne genauere Angabe der Ar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16444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assereinbruch (floo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04960" y="914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  ___________ / _________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 MMSI      eig. Schiffsname    eig. Rufzeichen</a:t>
            </a:r>
            <a:br>
              <a:rPr sz="18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 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 007 degree 28 minutes eas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hip is making water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ire assistance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" y="417600"/>
            <a:ext cx="338652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lagseite,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Notfall ohne genauere Angabe der Ar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8288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llision (colli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04960" y="11430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  ___________ / _________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 MMSI      eig. Schiffsname    eig. Rufzeichen</a:t>
            </a:r>
            <a:br>
              <a:rPr sz="18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 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 007 degree 28 minutes east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llision with unknown vessel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ire assistance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" y="417600"/>
            <a:ext cx="338652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lagseite,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Notfall ohne genauere Angabe der Ar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202572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undberührung (groun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04960" y="12193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DAY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__________  ___________ / _________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igene MMSI      eig. Schiffsname    eig. Rufzeichen</a:t>
            </a:r>
            <a:br>
              <a:rPr sz="18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sition: __ - __   _     ___ - __  _  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ispiel:   55 degree 03 minutes north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 007 degree 28 minutes east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hip agrounded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ire tug assistance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304920"/>
            <a:ext cx="0" cy="617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" y="417600"/>
            <a:ext cx="338652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uchstabiertafel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MDSS</a:t>
            </a:r>
            <a:br>
              <a:rPr sz="1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Not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Meldun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n über B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Feuer, Explo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Wassereinbr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Koll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Grundberühr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lagseite, Kentergefa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in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manövierunfähig &amp; treiben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Notfall ohne genauere Angabe der Ar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Schiff wird verlass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Piraterie oder Rau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stät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Weiterlei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obach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Beendig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ufhebung/Irrtu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Anruf zur Funkstille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Dringlichk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 Sicherheitsverke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-GMDS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kanä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22096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0707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6:03:59Z</dcterms:created>
  <dc:creator>EVZ</dc:creator>
  <dc:description/>
  <dc:language>en-US</dc:language>
  <cp:lastModifiedBy>EVZ</cp:lastModifiedBy>
  <dcterms:modified xsi:type="dcterms:W3CDTF">2002-02-13T20:26:37Z</dcterms:modified>
  <cp:revision>129</cp:revision>
  <dc:subject/>
  <dc:title>Lernunterlagen zum   Gültigen Sprechfunkzeugnis für UKW und Betriebszeugnisse I und II für UKW</dc:title>
</cp:coreProperties>
</file>